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893-E86E-429E-8797-CB72B953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001-7072-4478-93A4-BA028DEF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35C-173F-487A-AFF1-A69DBE33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1F5-FAA8-4A4D-AA48-A0E244D2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423-0920-4F81-AFBF-DDA1C047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790-96CB-48EB-8A46-CC12689A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6A51-C593-46BB-88E2-B4B4182B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870-8D80-4ECA-8D58-BE48B3F4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2BF-3EBC-4456-86F6-57E5668D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BB5-9CAE-40F6-BBD2-2FD1918F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EB8F-A27A-4D53-857D-5B9E0767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F23B-7759-43C4-93D2-F6071953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E100-FE02-4AAC-B755-482BBE6F3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Irw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goes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36:16Z</dcterms:created>
  <dc:creator> </dc:creator>
  <dc:description/>
  <dc:language>en-US</dc:language>
  <cp:lastModifiedBy> </cp:lastModifiedBy>
  <dcterms:modified xsi:type="dcterms:W3CDTF">2009-04-07T17:01:14Z</dcterms:modified>
  <cp:revision>4</cp:revision>
  <dc:subject/>
  <dc:title>Presentation</dc:title>
</cp:coreProperties>
</file>